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0AC1-754C-4F67-A799-CF8857A1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FFC0-7FA9-4763-ADDD-760EEF45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CF5B-7128-4020-8724-7C323FFDC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8C3D-0E96-4930-AB02-1D948EE6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2B4B-8FA1-4F1F-8116-B4919AD0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EE9C-D392-4393-A86A-F8F7862B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C3BD-1948-4F10-9FA0-1F4E493F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1067-47DA-4984-BD84-FB4D0B8F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926A-E9D8-4238-B01C-D3836D35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0910-588D-4F07-BBD9-08BB2BD0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EC63-5825-4828-8C1E-68CFA775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B2BD-E5E2-4308-B569-B555EE8F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67AE-E6C7-412C-9566-2B96C9109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791320" y="1295280"/>
            <a:ext cx="1861920" cy="2133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4648320" y="3581280"/>
            <a:ext cx="2438280" cy="1989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3352680" y="838080"/>
            <a:ext cx="2278080" cy="2590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1447920" y="1523880"/>
            <a:ext cx="1711080" cy="2235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00200" y="3733920"/>
            <a:ext cx="2895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42c3c"/>
                </a:solidFill>
                <a:latin typeface="Tempus Sans ITC"/>
              </a:rPr>
              <a:t>THE PB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42c3c"/>
                </a:solidFill>
                <a:latin typeface="Tempus Sans ITC"/>
              </a:rPr>
              <a:t>PROC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914400"/>
                <a:gridCol w="827280"/>
                <a:gridCol w="925560"/>
                <a:gridCol w="914400"/>
                <a:gridCol w="838080"/>
                <a:gridCol w="838080"/>
                <a:gridCol w="838440"/>
              </a:tblGrid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94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Presidents 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8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1066680" y="68580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c3c"/>
                </a:solidFill>
                <a:latin typeface="Tempus Sans ITC"/>
              </a:rPr>
              <a:t>Febru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1143000"/>
            <a:ext cx="64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Monday      Tuesday    Wednesday   Thursday      Friday        Saturday     Su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51080" y="4191120"/>
            <a:ext cx="345240" cy="24624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empus Sans ITC"/>
              </a:rPr>
              <a:t>??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1676520"/>
            <a:ext cx="609840" cy="398520"/>
          </a:xfrm>
          <a:prstGeom prst="rect">
            <a:avLst/>
          </a:prstGeom>
          <a:solidFill>
            <a:srgbClr val="697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empus Sans ITC"/>
              </a:rPr>
              <a:t>????????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2362320"/>
            <a:ext cx="609840" cy="580680"/>
          </a:xfrm>
          <a:prstGeom prst="rect">
            <a:avLst/>
          </a:prstGeom>
          <a:solidFill>
            <a:srgbClr val="e66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Speaker Series: Palliat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C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10840" y="5715000"/>
            <a:ext cx="2628360" cy="307080"/>
          </a:xfrm>
          <a:prstGeom prst="rect">
            <a:avLst/>
          </a:prstGeom>
          <a:solidFill>
            <a:srgbClr val="f2d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Death Mask Exhibit all mon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200400"/>
            <a:ext cx="609480" cy="580680"/>
          </a:xfrm>
          <a:prstGeom prst="rect">
            <a:avLst/>
          </a:prstGeom>
          <a:solidFill>
            <a:srgbClr val="6178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FILM: The Vanishing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838440"/>
                <a:gridCol w="903240"/>
                <a:gridCol w="925560"/>
                <a:gridCol w="914400"/>
                <a:gridCol w="838080"/>
                <a:gridCol w="838080"/>
                <a:gridCol w="838440"/>
              </a:tblGrid>
              <a:tr h="71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91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Spring Break begi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</a:tr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Classes Resu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Mid-semest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066680" y="68580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M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1143000"/>
            <a:ext cx="64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Monday      Tuesday    Wednesday   Thursday      Friday        Saturday     Su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4876920"/>
            <a:ext cx="701640" cy="39852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empus Sans ITC"/>
              </a:rPr>
              <a:t>???????????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2514600"/>
            <a:ext cx="762120" cy="459000"/>
          </a:xfrm>
          <a:prstGeom prst="rect">
            <a:avLst/>
          </a:prstGeom>
          <a:solidFill>
            <a:srgbClr val="697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Coping with Grief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Social Psych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4038480"/>
            <a:ext cx="685800" cy="580680"/>
          </a:xfrm>
          <a:prstGeom prst="rect">
            <a:avLst/>
          </a:prstGeom>
          <a:solidFill>
            <a:srgbClr val="e1b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Brown Bag Lun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Long-term C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1676520"/>
            <a:ext cx="609480" cy="459000"/>
          </a:xfrm>
          <a:prstGeom prst="rect">
            <a:avLst/>
          </a:prstGeom>
          <a:solidFill>
            <a:srgbClr val="697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FILM: American Beau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523880" y="1397160"/>
          <a:ext cx="6008760" cy="4154400"/>
        </p:xfrm>
        <a:graphic>
          <a:graphicData uri="http://schemas.openxmlformats.org/drawingml/2006/table">
            <a:tbl>
              <a:tblPr/>
              <a:tblGrid>
                <a:gridCol w="827280"/>
                <a:gridCol w="826920"/>
                <a:gridCol w="925560"/>
                <a:gridCol w="914400"/>
                <a:gridCol w="838080"/>
                <a:gridCol w="838440"/>
                <a:gridCol w="838080"/>
              </a:tblGrid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91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Pass/fail clourse w/d dead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Patriots 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0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1066680" y="68580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Apr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1143000"/>
            <a:ext cx="64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Monday      Tuesday    Wednesday   Thursday      Friday        Saturday     Su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4267080"/>
            <a:ext cx="990720" cy="39852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empus Sans ITC"/>
              </a:rPr>
              <a:t>Multicultural Fa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2438280"/>
            <a:ext cx="685800" cy="64260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mpus Sans ITC"/>
              </a:rPr>
              <a:t>Religious Forum: After Deat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4800600"/>
            <a:ext cx="609480" cy="824040"/>
          </a:xfrm>
          <a:prstGeom prst="rect">
            <a:avLst/>
          </a:prstGeom>
          <a:solidFill>
            <a:srgbClr val="e66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Speaker Series: “Project on Death in Amer.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24520" y="5715000"/>
            <a:ext cx="2475720" cy="307080"/>
          </a:xfrm>
          <a:prstGeom prst="rect">
            <a:avLst/>
          </a:prstGeom>
          <a:solidFill>
            <a:srgbClr val="f2d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Student Art Show all mon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3352680"/>
            <a:ext cx="609480" cy="580680"/>
          </a:xfrm>
          <a:prstGeom prst="rect">
            <a:avLst/>
          </a:prstGeom>
          <a:solidFill>
            <a:srgbClr val="6178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FILM: Y Tu Mama Tamb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914400"/>
                <a:gridCol w="827280"/>
                <a:gridCol w="925560"/>
                <a:gridCol w="914400"/>
                <a:gridCol w="838080"/>
                <a:gridCol w="838080"/>
                <a:gridCol w="83844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Classes 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Finals 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Finals 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Memorial 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1066680" y="68580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M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1143000"/>
            <a:ext cx="64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Monday      Tuesday    Wednesday   Thursday      Friday        Saturday     Su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2514600"/>
            <a:ext cx="609480" cy="459000"/>
          </a:xfrm>
          <a:prstGeom prst="rect">
            <a:avLst/>
          </a:prstGeom>
          <a:solidFill>
            <a:srgbClr val="697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FILM: God  said, Ha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8280" y="5638680"/>
            <a:ext cx="1421280" cy="307080"/>
          </a:xfrm>
          <a:prstGeom prst="rect">
            <a:avLst/>
          </a:prstGeom>
          <a:solidFill>
            <a:srgbClr val="f2d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LibraryDispla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1676520"/>
            <a:ext cx="701640" cy="64260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mpus Sans ITC"/>
              </a:rPr>
              <a:t>Personal Eulogy Worksh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981080" y="1828800"/>
            <a:ext cx="5029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2d364b"/>
                  </a:solidFill>
                  <a:miter/>
                </a:ln>
                <a:solidFill>
                  <a:srgbClr val="3a445e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empus Sans ITC"/>
              </a:rPr>
              <a:t>Thank you</a:t>
            </a:r>
            <a:endParaRPr b="0" lang="en-US" sz="2400" spc="1" strike="noStrike">
              <a:ln w="25560">
                <a:solidFill>
                  <a:srgbClr val="2d364b"/>
                </a:solidFill>
                <a:miter/>
              </a:ln>
              <a:solidFill>
                <a:srgbClr val="3a445e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empus Sans ITC"/>
              <a:ea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14400" y="609480"/>
            <a:ext cx="2133720" cy="99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f3255"/>
                </a:solidFill>
                <a:latin typeface="Tempus Sans ITC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f3255"/>
                </a:solidFill>
                <a:latin typeface="Tempus Sans ITC"/>
              </a:rPr>
              <a:t>Ste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3255"/>
                </a:solidFill>
                <a:latin typeface="Tempus Sans ITC"/>
              </a:rPr>
              <a:t>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f3255"/>
                </a:solidFill>
                <a:latin typeface="Tempus Sans ITC"/>
              </a:rPr>
              <a:t>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f3255"/>
                </a:solidFill>
                <a:latin typeface="Tempus Sans ITC"/>
              </a:rPr>
              <a:t>PB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5720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1.  Encounter an Ill-Defined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914400"/>
            <a:ext cx="34290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2. Ask IPF Ques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3255"/>
                </a:solidFill>
                <a:latin typeface="Tempus Sans ITC"/>
                <a:ea typeface="宋体"/>
              </a:rPr>
              <a:t>    </a:t>
            </a:r>
            <a:r>
              <a:rPr b="1" lang="en-US" sz="1600" spc="-1" strike="noStrike">
                <a:solidFill>
                  <a:srgbClr val="1f3255"/>
                </a:solidFill>
                <a:latin typeface="Tempus Sans ITC"/>
                <a:ea typeface="宋体"/>
              </a:rPr>
              <a:t>Interesting?  Puzzling?  Find ou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66240" y="1600200"/>
            <a:ext cx="416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3. Pursue Problem F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29600" y="2057400"/>
            <a:ext cx="422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4.  A. Map Problem F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     </a:t>
            </a: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B. Prioritize a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2819520"/>
            <a:ext cx="3581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5. Investigate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3255"/>
                </a:solidFill>
                <a:latin typeface="Tempus Sans ITC"/>
                <a:ea typeface="宋体"/>
              </a:rPr>
              <a:t>     </a:t>
            </a:r>
            <a:r>
              <a:rPr b="1" lang="en-US" sz="1600" spc="-1" strike="noStrike">
                <a:solidFill>
                  <a:srgbClr val="1f3255"/>
                </a:solidFill>
                <a:latin typeface="Tempus Sans ITC"/>
                <a:ea typeface="宋体"/>
              </a:rPr>
              <a:t>Strateg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3255"/>
                </a:solidFill>
                <a:latin typeface="Tempus Sans ITC"/>
                <a:ea typeface="宋体"/>
              </a:rPr>
              <a:t>      </a:t>
            </a:r>
            <a:r>
              <a:rPr b="1" lang="en-US" sz="1600" spc="-1" strike="noStrike">
                <a:solidFill>
                  <a:srgbClr val="1f3255"/>
                </a:solidFill>
                <a:latin typeface="Tempus Sans ITC"/>
                <a:ea typeface="宋体"/>
              </a:rPr>
              <a:t>Inqu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38098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6. Analyze th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56080" y="4343400"/>
            <a:ext cx="39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  <a:ea typeface="宋体"/>
              </a:rPr>
              <a:t> </a:t>
            </a: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7.</a:t>
            </a:r>
            <a:r>
              <a:rPr b="1" lang="en-US" sz="1800" spc="-1" strike="noStrike">
                <a:solidFill>
                  <a:srgbClr val="1f3255"/>
                </a:solidFill>
                <a:latin typeface="Tempus Sans ITC"/>
                <a:ea typeface="宋体"/>
              </a:rPr>
              <a:t> </a:t>
            </a:r>
            <a:r>
              <a:rPr b="1" lang="en-US" sz="2800" spc="-1" strike="noStrike">
                <a:solidFill>
                  <a:srgbClr val="1f3255"/>
                </a:solidFill>
                <a:latin typeface="Tempus Sans ITC"/>
                <a:ea typeface="宋体"/>
              </a:rPr>
              <a:t>Reiterate Learning</a:t>
            </a:r>
            <a:r>
              <a:rPr b="1" lang="en-US" sz="1800" spc="-1" strike="noStrike">
                <a:solidFill>
                  <a:srgbClr val="000000"/>
                </a:solidFill>
                <a:latin typeface="Tempus Sans ITC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70480" y="4876920"/>
            <a:ext cx="54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8. </a:t>
            </a:r>
            <a:r>
              <a:rPr b="1" lang="en-US" sz="2000" spc="-1" strike="noStrike">
                <a:solidFill>
                  <a:srgbClr val="1f3255"/>
                </a:solidFill>
                <a:latin typeface="Tempus Sans ITC"/>
                <a:ea typeface="宋体"/>
              </a:rPr>
              <a:t>Generate Solutions/Recommend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334120"/>
            <a:ext cx="450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9.  Communicate th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64440" y="579132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10. Conduct Self-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581280" y="1676520"/>
            <a:ext cx="2230560" cy="2768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43000" y="2209680"/>
            <a:ext cx="2179800" cy="271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324480" y="3505320"/>
            <a:ext cx="2113200" cy="2590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943600" y="609480"/>
            <a:ext cx="2109960" cy="2743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44720" y="1219320"/>
            <a:ext cx="226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42c3c"/>
                </a:solidFill>
                <a:latin typeface="Tempus Sans ITC"/>
              </a:rPr>
              <a:t>AF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77320" y="4773600"/>
            <a:ext cx="2264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242c3c"/>
                </a:solidFill>
                <a:latin typeface="Tempus Sans ITC"/>
              </a:rPr>
              <a:t>PBL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7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7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343400" y="457200"/>
            <a:ext cx="4341960" cy="5943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1371600"/>
            <a:ext cx="35816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f3255"/>
                </a:solidFill>
                <a:latin typeface="Tempus Sans ITC"/>
              </a:rPr>
              <a:t>ART of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f3255"/>
                </a:solidFill>
                <a:latin typeface="Tempus Sans ITC"/>
              </a:rPr>
              <a:t>DYI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f3255"/>
                </a:solidFill>
                <a:latin typeface="Tempus Sans ITC"/>
              </a:rPr>
              <a:t> </a:t>
            </a:r>
            <a:r>
              <a:rPr b="0" lang="en-US" sz="6000" spc="-1" strike="noStrike">
                <a:solidFill>
                  <a:srgbClr val="1f3255"/>
                </a:solidFill>
                <a:latin typeface="Tempus Sans ITC"/>
              </a:rPr>
              <a:t>Calenda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f3255"/>
                </a:solidFill>
                <a:latin typeface="Tempus Sans ITC"/>
              </a:rPr>
              <a:t>Of Eve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523880" y="1219320"/>
          <a:ext cx="6096240" cy="4064040"/>
        </p:xfrm>
        <a:graphic>
          <a:graphicData uri="http://schemas.openxmlformats.org/drawingml/2006/table">
            <a:tbl>
              <a:tblPr/>
              <a:tblGrid>
                <a:gridCol w="914400"/>
                <a:gridCol w="827280"/>
                <a:gridCol w="925560"/>
                <a:gridCol w="914400"/>
                <a:gridCol w="838080"/>
                <a:gridCol w="838080"/>
                <a:gridCol w="838440"/>
              </a:tblGrid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6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Labor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Classes beg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Add/drop en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8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1143000" y="533520"/>
            <a:ext cx="176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ept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990720"/>
            <a:ext cx="64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Monday      Tuesday    Wednesday   Thursday      Friday        Saturday     Su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2057400"/>
            <a:ext cx="609480" cy="77976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mpus Sans ITC"/>
              </a:rPr>
              <a:t>Kick off Ev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mpus Sans ITC"/>
              </a:rPr>
              <a:t>with Mitch Abl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4724280"/>
            <a:ext cx="685800" cy="580680"/>
          </a:xfrm>
          <a:prstGeom prst="rect">
            <a:avLst/>
          </a:prstGeom>
          <a:solidFill>
            <a:srgbClr val="697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Phil./Engl. Depts.:  Existential Concer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78520" y="5511960"/>
            <a:ext cx="2262600" cy="307080"/>
          </a:xfrm>
          <a:prstGeom prst="rect">
            <a:avLst/>
          </a:prstGeom>
          <a:solidFill>
            <a:srgbClr val="f2d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Library Display all mon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2971800"/>
            <a:ext cx="533520" cy="580680"/>
          </a:xfrm>
          <a:prstGeom prst="rect">
            <a:avLst/>
          </a:prstGeom>
          <a:solidFill>
            <a:srgbClr val="6178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FILM: </a:t>
            </a:r>
            <a:r>
              <a:rPr b="0" i="1" lang="en-US" sz="800" spc="-1" strike="noStrike">
                <a:solidFill>
                  <a:srgbClr val="000000"/>
                </a:solidFill>
                <a:latin typeface="Tempus Sans ITC"/>
              </a:rPr>
              <a:t>My Life without 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3886200"/>
            <a:ext cx="685800" cy="702360"/>
          </a:xfrm>
          <a:prstGeom prst="rect">
            <a:avLst/>
          </a:prstGeom>
          <a:solidFill>
            <a:srgbClr val="e1b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LETS:Brown Bag Lunch </a:t>
            </a:r>
            <a:r>
              <a:rPr b="0" i="1" lang="en-US" sz="800" spc="-1" strike="noStrike">
                <a:solidFill>
                  <a:srgbClr val="000000"/>
                </a:solidFill>
                <a:latin typeface="Tempus Sans ITC"/>
              </a:rPr>
              <a:t>Advanced Directi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914400"/>
                <a:gridCol w="827280"/>
                <a:gridCol w="925560"/>
                <a:gridCol w="914400"/>
                <a:gridCol w="838080"/>
                <a:gridCol w="838080"/>
                <a:gridCol w="838440"/>
              </a:tblGrid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6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Columbus 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6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Mid-semes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1066680" y="68580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Octo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1143000"/>
            <a:ext cx="64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Monday      Tuesday    Wednesday   Thursday      Friday        Saturday     Su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81480" y="2438280"/>
            <a:ext cx="685800" cy="70308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empus Sans ITC"/>
              </a:rPr>
              <a:t>Ar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empus Sans ITC"/>
              </a:rPr>
              <a:t>Show Ope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02560" y="5715000"/>
            <a:ext cx="2616120" cy="307080"/>
          </a:xfrm>
          <a:prstGeom prst="rect">
            <a:avLst/>
          </a:prstGeom>
          <a:solidFill>
            <a:srgbClr val="f2d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Photography Show all mon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3352680"/>
            <a:ext cx="533520" cy="413640"/>
          </a:xfrm>
          <a:prstGeom prst="rect">
            <a:avLst/>
          </a:prstGeom>
          <a:solidFill>
            <a:srgbClr val="6178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mpus Sans ITC"/>
              </a:rPr>
              <a:t>FILM: </a:t>
            </a:r>
            <a:r>
              <a:rPr b="0" i="1" lang="en-US" sz="1200" spc="-1" strike="noStrike">
                <a:solidFill>
                  <a:srgbClr val="000000"/>
                </a:solidFill>
                <a:latin typeface="Tempus Sans ITC"/>
              </a:rPr>
              <a:t>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3962520"/>
            <a:ext cx="533520" cy="106740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Speaker Series: BrownU Nursing Hom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4876920"/>
            <a:ext cx="549360" cy="398520"/>
          </a:xfrm>
          <a:prstGeom prst="rect">
            <a:avLst/>
          </a:prstGeom>
          <a:solidFill>
            <a:srgbClr val="697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empus Sans ITC"/>
              </a:rPr>
              <a:t>??????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914400"/>
                <a:gridCol w="827280"/>
                <a:gridCol w="925560"/>
                <a:gridCol w="914400"/>
                <a:gridCol w="838080"/>
                <a:gridCol w="838080"/>
                <a:gridCol w="838440"/>
              </a:tblGrid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OCT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6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Pass/fail Course w/d deadline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Veterans 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90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Thanksgiv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1066680" y="6858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Nov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1143000"/>
            <a:ext cx="64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Monday      Tuesday    Wednesday   Thursday      Friday        Saturday     Su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1752480"/>
            <a:ext cx="762120" cy="39852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empus Sans ITC"/>
              </a:rPr>
              <a:t>Halloween Par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514600"/>
            <a:ext cx="685800" cy="702360"/>
          </a:xfrm>
          <a:prstGeom prst="rect">
            <a:avLst/>
          </a:prstGeom>
          <a:solidFill>
            <a:srgbClr val="e1b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LETS:Brown Bag Lun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Funerals/$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4114800"/>
            <a:ext cx="609840" cy="702360"/>
          </a:xfrm>
          <a:prstGeom prst="rect">
            <a:avLst/>
          </a:prstGeom>
          <a:solidFill>
            <a:srgbClr val="697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FILM: The Sweet Hereaf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3276720"/>
            <a:ext cx="685800" cy="702360"/>
          </a:xfrm>
          <a:prstGeom prst="rect">
            <a:avLst/>
          </a:prstGeom>
          <a:solidFill>
            <a:srgbClr val="697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GCOE: Helping Kids Cope with Dea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914400"/>
                <a:gridCol w="827280"/>
                <a:gridCol w="925560"/>
                <a:gridCol w="914400"/>
                <a:gridCol w="838080"/>
                <a:gridCol w="838080"/>
                <a:gridCol w="838440"/>
              </a:tblGrid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Classes 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Finals 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Finals 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</a:tr>
              <a:tr h="80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JAN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1066680" y="685800"/>
            <a:ext cx="176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c3c"/>
                </a:solidFill>
                <a:latin typeface="Tempus Sans ITC"/>
              </a:rPr>
              <a:t>Dec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1143000"/>
            <a:ext cx="64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Monday      Tuesday    Wednesday   Thursday      Friday        Saturday     Su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1752480"/>
            <a:ext cx="1219320" cy="39852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empus Sans ITC"/>
              </a:rPr>
              <a:t>Death Monolog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14600" y="3429000"/>
            <a:ext cx="609480" cy="39852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empus Sans ITC"/>
              </a:rPr>
              <a:t>Conc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2438280"/>
            <a:ext cx="609480" cy="55080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empus Sans ITC"/>
              </a:rPr>
              <a:t>African Death D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2438280"/>
            <a:ext cx="685800" cy="702360"/>
          </a:xfrm>
          <a:prstGeom prst="rect">
            <a:avLst/>
          </a:prstGeom>
          <a:solidFill>
            <a:srgbClr val="e1b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LETS: Brown Bag Lun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Living Wil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0360" y="5638680"/>
            <a:ext cx="2794320" cy="307080"/>
          </a:xfrm>
          <a:prstGeom prst="rect">
            <a:avLst/>
          </a:prstGeom>
          <a:solidFill>
            <a:srgbClr val="f2d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Community Art Show all mon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914400"/>
                <a:gridCol w="827280"/>
                <a:gridCol w="925560"/>
                <a:gridCol w="914400"/>
                <a:gridCol w="838080"/>
                <a:gridCol w="838080"/>
                <a:gridCol w="838440"/>
              </a:tblGrid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Winter session begi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7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91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Winter session en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Classes 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7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Add/drop en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1066680" y="68580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Janu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1143000"/>
            <a:ext cx="64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empus Sans ITC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Tempus Sans ITC"/>
              </a:rPr>
              <a:t>Monday      Tuesday    Wednesday   Thursday      Friday        Saturday     Su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4191120"/>
            <a:ext cx="609480" cy="64152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empus Sans ITC"/>
              </a:rPr>
              <a:t>Poe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empus Sans ITC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3886200"/>
            <a:ext cx="609480" cy="580680"/>
          </a:xfrm>
          <a:prstGeom prst="rect">
            <a:avLst/>
          </a:prstGeom>
          <a:solidFill>
            <a:srgbClr val="697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FILM: Antonia’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8800" y="5638680"/>
            <a:ext cx="3836880" cy="307080"/>
          </a:xfrm>
          <a:prstGeom prst="rect">
            <a:avLst/>
          </a:prstGeom>
          <a:solidFill>
            <a:srgbClr val="f2d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Special edition of  </a:t>
            </a:r>
            <a:r>
              <a:rPr b="0" i="1" lang="en-US" sz="1400" spc="-1" strike="noStrike">
                <a:solidFill>
                  <a:srgbClr val="000000"/>
                </a:solidFill>
                <a:latin typeface="Tempus Sans ITC"/>
              </a:rPr>
              <a:t>The Watermark</a:t>
            </a: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 comes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1752480"/>
            <a:ext cx="1524240" cy="48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empus Sans ITC"/>
              </a:rPr>
              <a:t>CCT  </a:t>
            </a:r>
            <a:r>
              <a:rPr b="0" i="1" lang="en-US" sz="1200" spc="-1" strike="noStrike">
                <a:solidFill>
                  <a:srgbClr val="000000"/>
                </a:solidFill>
                <a:latin typeface="Tempus Sans ITC"/>
              </a:rPr>
              <a:t>Special Cour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16:31:29Z</dcterms:created>
  <dc:creator>Lisa Gartner</dc:creator>
  <dc:description/>
  <dc:language>en-US</dc:language>
  <cp:lastModifiedBy>Jan Coe</cp:lastModifiedBy>
  <dcterms:modified xsi:type="dcterms:W3CDTF">2007-08-27T00:48:48Z</dcterms:modified>
  <cp:revision>14</cp:revision>
  <dc:subject/>
  <dc:title>PowerPoint Presentation</dc:title>
</cp:coreProperties>
</file>