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57F-61C0-4DAD-852A-AC12AF83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BD0-F6C7-40E9-83DA-CE6AB5EF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1CA-85E4-4F58-9CB2-B0A52816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FBA-7CD9-45DE-82F1-F2D6F3C5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DED-2291-4FA9-AFB7-A2451255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4BE-EEFE-40FB-A0D8-A8718A4C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F0D-1C5C-4C88-9D54-7E66DDB7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885-17F3-423B-80F7-667F0BAB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C64-B22A-4E9A-8EF4-55367EAD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64B7-CFBA-40DE-BD50-0016C082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250-4278-41BE-BC39-4B652DD8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DEB2-50FF-465D-9781-451376EE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C7CF-043D-4C84-8EB5-2C8A4EAC9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861920" cy="2133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2438280" cy="198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352680" y="838080"/>
            <a:ext cx="227808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1447920" y="1523880"/>
            <a:ext cx="1711080" cy="2235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3733920"/>
            <a:ext cx="289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THE PB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PROC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resident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c3c"/>
                </a:solidFill>
                <a:latin typeface="Tempus Sans ITC"/>
              </a:rPr>
              <a:t>Febr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080" y="4191120"/>
            <a:ext cx="345240" cy="24624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1676520"/>
            <a:ext cx="609840" cy="39852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362320"/>
            <a:ext cx="609840" cy="580680"/>
          </a:xfrm>
          <a:prstGeom prst="rect">
            <a:avLst/>
          </a:prstGeom>
          <a:solidFill>
            <a:srgbClr val="e66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Palli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0840" y="5715000"/>
            <a:ext cx="262836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Death Mask Exhibit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200400"/>
            <a:ext cx="60948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The Vanishing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838440"/>
                <a:gridCol w="903240"/>
                <a:gridCol w="925560"/>
                <a:gridCol w="914400"/>
                <a:gridCol w="838080"/>
                <a:gridCol w="838080"/>
                <a:gridCol w="838440"/>
              </a:tblGrid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Spring Break begi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Resu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id-seme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876920"/>
            <a:ext cx="70164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??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514600"/>
            <a:ext cx="76212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Coping with Grie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ocial Psy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038480"/>
            <a:ext cx="685800" cy="58068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ong-term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676520"/>
            <a:ext cx="60948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American Beau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3880" y="1397160"/>
          <a:ext cx="6008760" cy="4154400"/>
        </p:xfrm>
        <a:graphic>
          <a:graphicData uri="http://schemas.openxmlformats.org/drawingml/2006/table">
            <a:tbl>
              <a:tblPr/>
              <a:tblGrid>
                <a:gridCol w="827280"/>
                <a:gridCol w="826920"/>
                <a:gridCol w="925560"/>
                <a:gridCol w="914400"/>
                <a:gridCol w="838080"/>
                <a:gridCol w="838440"/>
                <a:gridCol w="8380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ss/fail clourse w/d dead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triots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p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267080"/>
            <a:ext cx="9907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Multicultural F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2438280"/>
            <a:ext cx="685800" cy="6426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Religious Forum: After Dea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4800600"/>
            <a:ext cx="609480" cy="824040"/>
          </a:xfrm>
          <a:prstGeom prst="rect">
            <a:avLst/>
          </a:prstGeom>
          <a:solidFill>
            <a:srgbClr val="e66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“Project on Death in Amer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24520" y="5715000"/>
            <a:ext cx="24757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Student Art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3352680"/>
            <a:ext cx="60948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Y Tu Mama Tamb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emorial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514600"/>
            <a:ext cx="60948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God  said, Ha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8280" y="5638680"/>
            <a:ext cx="142128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LibraryDispl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676520"/>
            <a:ext cx="701640" cy="6426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Personal Eulogy 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81080" y="182880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2d364b"/>
                  </a:solidFill>
                  <a:miter/>
                </a:ln>
                <a:solidFill>
                  <a:srgbClr val="3a445e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empus Sans ITC"/>
              </a:rPr>
              <a:t>Thank you</a:t>
            </a:r>
            <a:endParaRPr b="0" lang="en-US" sz="2400" spc="1" strike="noStrike">
              <a:ln w="25560">
                <a:solidFill>
                  <a:srgbClr val="2d364b"/>
                </a:solidFill>
                <a:miter/>
              </a:ln>
              <a:solidFill>
                <a:srgbClr val="3a445e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empus Sans ITC"/>
              <a:ea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609480"/>
            <a:ext cx="2133720" cy="9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3255"/>
                </a:solidFill>
                <a:latin typeface="Tempus Sans ITC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f3255"/>
                </a:solidFill>
                <a:latin typeface="Tempus Sans ITC"/>
              </a:rPr>
              <a:t>Ste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3255"/>
                </a:solidFill>
                <a:latin typeface="Tempus Sans ITC"/>
              </a:rPr>
              <a:t>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3255"/>
                </a:solidFill>
                <a:latin typeface="Tempus Sans ITC"/>
              </a:rPr>
              <a:t>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3255"/>
                </a:solidFill>
                <a:latin typeface="Tempus Sans ITC"/>
              </a:rPr>
              <a:t>PB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57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1.  Encounter an Ill-Define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914400"/>
            <a:ext cx="3429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2. Ask IPF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Interesting?  Puzzling?  Find ou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66240" y="1600200"/>
            <a:ext cx="41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3. Pursue Problem 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600" y="2057400"/>
            <a:ext cx="422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4.  A. Map Problem 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</a:t>
            </a: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B. Prioritiz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819520"/>
            <a:ext cx="3581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5. Investigat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Strateg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Inqu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8098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6. Analyze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6080" y="4343400"/>
            <a:ext cx="39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宋体"/>
              </a:rPr>
              <a:t> </a:t>
            </a: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7.</a:t>
            </a: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</a:t>
            </a:r>
            <a:r>
              <a:rPr b="1" lang="en-US" sz="2800" spc="-1" strike="noStrike">
                <a:solidFill>
                  <a:srgbClr val="1f3255"/>
                </a:solidFill>
                <a:latin typeface="Tempus Sans ITC"/>
                <a:ea typeface="宋体"/>
              </a:rPr>
              <a:t>Reiterate Learning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0480" y="48769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8. </a:t>
            </a:r>
            <a:r>
              <a:rPr b="1" lang="en-US" sz="2000" spc="-1" strike="noStrike">
                <a:solidFill>
                  <a:srgbClr val="1f3255"/>
                </a:solidFill>
                <a:latin typeface="Tempus Sans ITC"/>
                <a:ea typeface="宋体"/>
              </a:rPr>
              <a:t>Generate Solutions/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334120"/>
            <a:ext cx="45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9.  Communicate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4440" y="5791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10. Conduct Self-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2230560" cy="2768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2179800" cy="271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324480" y="3505320"/>
            <a:ext cx="2113200" cy="2590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943600" y="609480"/>
            <a:ext cx="21099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44720" y="121932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AF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77320" y="4773600"/>
            <a:ext cx="226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242c3c"/>
                </a:solidFill>
                <a:latin typeface="Tempus Sans ITC"/>
              </a:rPr>
              <a:t>PB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34196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1371600"/>
            <a:ext cx="35816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3255"/>
                </a:solidFill>
                <a:latin typeface="Tempus Sans ITC"/>
              </a:rPr>
              <a:t>ART of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3255"/>
                </a:solidFill>
                <a:latin typeface="Tempus Sans ITC"/>
              </a:rPr>
              <a:t>DY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 </a:t>
            </a: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Calend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Of Ev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3880" y="1219320"/>
          <a:ext cx="6096240" cy="406404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Labor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be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Add/drop e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143000" y="533520"/>
            <a:ext cx="17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99072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057400"/>
            <a:ext cx="609480" cy="77976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Kick off Ev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with Mitch Abl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724280"/>
            <a:ext cx="685800" cy="58068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Phil./Engl. Depts.:  Existential Concer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78520" y="5511960"/>
            <a:ext cx="226260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Library Display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2971800"/>
            <a:ext cx="53352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</a:t>
            </a:r>
            <a:r>
              <a:rPr b="0" i="1" lang="en-US" sz="800" spc="-1" strike="noStrike">
                <a:solidFill>
                  <a:srgbClr val="000000"/>
                </a:solidFill>
                <a:latin typeface="Tempus Sans ITC"/>
              </a:rPr>
              <a:t>My Life without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88620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Brown Bag Lunch </a:t>
            </a:r>
            <a:r>
              <a:rPr b="0" i="1" lang="en-US" sz="800" spc="-1" strike="noStrike">
                <a:solidFill>
                  <a:srgbClr val="000000"/>
                </a:solidFill>
                <a:latin typeface="Tempus Sans ITC"/>
              </a:rPr>
              <a:t>Advanced Direc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olumbu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id-seme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cto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2438280"/>
            <a:ext cx="685800" cy="70308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A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Show Ope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2560" y="5715000"/>
            <a:ext cx="26161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Photography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3352680"/>
            <a:ext cx="533520" cy="41364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FILM: </a:t>
            </a:r>
            <a:r>
              <a:rPr b="0" i="1" lang="en-US" sz="1200" spc="-1" strike="noStrike">
                <a:solidFill>
                  <a:srgbClr val="000000"/>
                </a:solidFill>
                <a:latin typeface="Tempus Sans ITC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962520"/>
            <a:ext cx="533520" cy="10674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BrownU Nursing Ho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4876920"/>
            <a:ext cx="549360" cy="39852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empus Sans ITC"/>
              </a:rPr>
              <a:t>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OCT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ss/fail Course w/d deadlin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Veteran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Thanksgi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066680" y="685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1752480"/>
            <a:ext cx="7621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Halloween Pa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51460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unerals/$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4114800"/>
            <a:ext cx="609840" cy="70236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The Sweet Here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276720"/>
            <a:ext cx="685800" cy="70236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GCOE: Helping Kids Cope with De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JAN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1066680" y="685800"/>
            <a:ext cx="17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c3c"/>
                </a:solidFill>
                <a:latin typeface="Tempus Sans ITC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752480"/>
            <a:ext cx="12193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Death Monolog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3429000"/>
            <a:ext cx="60948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Conc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2438280"/>
            <a:ext cx="609480" cy="5508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African Death D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43828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 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iving W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360" y="5638680"/>
            <a:ext cx="27943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Community Art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Winter session begi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Winter session en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Add/drop e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191120"/>
            <a:ext cx="609480" cy="641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mpus Sans ITC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mpus Sans ITC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886200"/>
            <a:ext cx="609480" cy="58068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Antonia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8800" y="5638680"/>
            <a:ext cx="383688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Special edition of  </a:t>
            </a: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The Watermark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come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1752480"/>
            <a:ext cx="1524240" cy="48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CCT  </a:t>
            </a:r>
            <a:r>
              <a:rPr b="0" i="1" lang="en-US" sz="1200" spc="-1" strike="noStrike">
                <a:solidFill>
                  <a:srgbClr val="000000"/>
                </a:solidFill>
                <a:latin typeface="Tempus Sans ITC"/>
              </a:rPr>
              <a:t>Special Cou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6:31:29Z</dcterms:created>
  <dc:creator>Lisa Gartner</dc:creator>
  <dc:description/>
  <dc:language>en-US</dc:language>
  <cp:lastModifiedBy>Jan Coe</cp:lastModifiedBy>
  <dcterms:modified xsi:type="dcterms:W3CDTF">2007-08-27T00:48:48Z</dcterms:modified>
  <cp:revision>14</cp:revision>
  <dc:subject/>
  <dc:title>PowerPoint Presentation</dc:title>
</cp:coreProperties>
</file>