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EFB7-E5FD-4E33-801D-6FBBFBA5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D3E-D1C9-41CB-8B97-59D19ED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1B66-A82A-4326-91A8-91E685EF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873A-620C-46EB-BAF0-30A04C23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4BFE-3531-4968-95E6-0BA513D5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579-749C-40B6-80F0-9DEF6103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890-C50C-48C1-BB57-1824982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818-C86E-47B8-8E61-69C5EEC3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EA7-E7B6-4DDF-AFB8-7B35FE9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2F4-57BA-4864-A106-31353042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769-071D-4E04-AB11-DCBC12E0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C9D-BFE4-4DFD-996A-AE299B5B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550-8384-4611-BE8E-9EA7DF750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791320" y="1295280"/>
            <a:ext cx="1861920" cy="2133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2438280" cy="1989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3352680" y="838080"/>
            <a:ext cx="2278080" cy="2590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1447920" y="1523880"/>
            <a:ext cx="1711080" cy="223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3733920"/>
            <a:ext cx="2895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THE PB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PROC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4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resident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Febr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51080" y="4191120"/>
            <a:ext cx="345240" cy="24624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1676520"/>
            <a:ext cx="60984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2362320"/>
            <a:ext cx="609840" cy="58068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Palliati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0840" y="5715000"/>
            <a:ext cx="262836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Death Mask Exhibit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20040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Vanishing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838440"/>
                <a:gridCol w="903240"/>
                <a:gridCol w="925560"/>
                <a:gridCol w="914400"/>
                <a:gridCol w="838080"/>
                <a:gridCol w="838080"/>
                <a:gridCol w="838440"/>
              </a:tblGrid>
              <a:tr h="71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Spring Break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Resu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876920"/>
            <a:ext cx="70164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?????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514600"/>
            <a:ext cx="76212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Coping with Grie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ocial Psy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4600" y="4038480"/>
            <a:ext cx="685800" cy="58068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ong-term C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67652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merican Beau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3880" y="1397160"/>
          <a:ext cx="6008760" cy="4154400"/>
        </p:xfrm>
        <a:graphic>
          <a:graphicData uri="http://schemas.openxmlformats.org/drawingml/2006/table">
            <a:tbl>
              <a:tblPr/>
              <a:tblGrid>
                <a:gridCol w="827280"/>
                <a:gridCol w="826920"/>
                <a:gridCol w="925560"/>
                <a:gridCol w="914400"/>
                <a:gridCol w="838080"/>
                <a:gridCol w="838440"/>
                <a:gridCol w="8380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lourse w/d dead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triots 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Apr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4267080"/>
            <a:ext cx="9907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Multicultural Fa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2438280"/>
            <a:ext cx="68580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Religious Forum: After Dea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4800600"/>
            <a:ext cx="609480" cy="824040"/>
          </a:xfrm>
          <a:prstGeom prst="rect">
            <a:avLst/>
          </a:prstGeom>
          <a:solidFill>
            <a:srgbClr val="e66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“Project on Death in Amer.”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24520" y="5715000"/>
            <a:ext cx="24757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tudent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3352680"/>
            <a:ext cx="60948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Y Tu Mama Tambi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emorial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514600"/>
            <a:ext cx="609480" cy="45900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God  said, Ha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280" y="5638680"/>
            <a:ext cx="14212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Displ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76520"/>
            <a:ext cx="701640" cy="6426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Personal Eulogy Worksh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81080" y="18288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2d364b"/>
                  </a:solidFill>
                  <a:miter/>
                </a:ln>
                <a:solidFill>
                  <a:srgbClr val="3a445e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empus Sans ITC"/>
              </a:rPr>
              <a:t>Thank you</a:t>
            </a:r>
            <a:endParaRPr b="0" lang="en-US" sz="2400" spc="1" strike="noStrike">
              <a:ln w="25560">
                <a:solidFill>
                  <a:srgbClr val="2d364b"/>
                </a:solidFill>
                <a:miter/>
              </a:ln>
              <a:solidFill>
                <a:srgbClr val="3a445e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empus Sans ITC"/>
              <a:ea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09480"/>
            <a:ext cx="2133720" cy="99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f3255"/>
                </a:solidFill>
                <a:latin typeface="Tempus Sans ITC"/>
              </a:rPr>
              <a:t>Ste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3255"/>
                </a:solidFill>
                <a:latin typeface="Tempus Sans ITC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3255"/>
                </a:solidFill>
                <a:latin typeface="Tempus Sans ITC"/>
              </a:rPr>
              <a:t>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3255"/>
                </a:solidFill>
                <a:latin typeface="Tempus Sans ITC"/>
              </a:rPr>
              <a:t>PB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572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.  Encounter an Ill-Define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914400"/>
            <a:ext cx="3429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2. Ask IPF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teresting?  Puzzling?  Find ou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66240" y="1600200"/>
            <a:ext cx="416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3. Pursue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29600" y="2057400"/>
            <a:ext cx="42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4.  A. Map Problem 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B. Prioritize a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819520"/>
            <a:ext cx="3581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5. Investigate the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Strate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1f3255"/>
                </a:solidFill>
                <a:latin typeface="Tempus Sans ITC"/>
                <a:ea typeface="宋体"/>
              </a:rPr>
              <a:t>Inqu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8098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6. Analyz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56080" y="4343400"/>
            <a:ext cx="39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  <a:ea typeface="宋体"/>
              </a:rPr>
              <a:t> </a:t>
            </a: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7.</a:t>
            </a:r>
            <a:r>
              <a:rPr b="1" lang="en-US" sz="1800" spc="-1" strike="noStrike">
                <a:solidFill>
                  <a:srgbClr val="1f3255"/>
                </a:solidFill>
                <a:latin typeface="Tempus Sans ITC"/>
                <a:ea typeface="宋体"/>
              </a:rPr>
              <a:t> </a:t>
            </a:r>
            <a:r>
              <a:rPr b="1" lang="en-US" sz="2800" spc="-1" strike="noStrike">
                <a:solidFill>
                  <a:srgbClr val="1f3255"/>
                </a:solidFill>
                <a:latin typeface="Tempus Sans ITC"/>
                <a:ea typeface="宋体"/>
              </a:rPr>
              <a:t>Reiterate Learning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70480" y="4876920"/>
            <a:ext cx="54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8. </a:t>
            </a:r>
            <a:r>
              <a:rPr b="1" lang="en-US" sz="2000" spc="-1" strike="noStrike">
                <a:solidFill>
                  <a:srgbClr val="1f3255"/>
                </a:solidFill>
                <a:latin typeface="Tempus Sans ITC"/>
                <a:ea typeface="宋体"/>
              </a:rPr>
              <a:t>Generate Solutions/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334120"/>
            <a:ext cx="45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9.  Communicate th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64440" y="579132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3255"/>
                </a:solidFill>
                <a:latin typeface="Tempus Sans ITC"/>
                <a:ea typeface="宋体"/>
              </a:rPr>
              <a:t>10. Conduct Self-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81280" y="1676520"/>
            <a:ext cx="2230560" cy="2768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2179800" cy="271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324480" y="3505320"/>
            <a:ext cx="2113200" cy="2590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943600" y="609480"/>
            <a:ext cx="21099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4720" y="1219320"/>
            <a:ext cx="226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42c3c"/>
                </a:solidFill>
                <a:latin typeface="Tempus Sans ITC"/>
              </a:rPr>
              <a:t>AF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77320" y="4773600"/>
            <a:ext cx="2264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242c3c"/>
                </a:solidFill>
                <a:latin typeface="Tempus Sans ITC"/>
              </a:rPr>
              <a:t>PBL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196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371600"/>
            <a:ext cx="35816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ART of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f3255"/>
                </a:solidFill>
                <a:latin typeface="Tempus Sans ITC"/>
              </a:rPr>
              <a:t>DY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 </a:t>
            </a: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Calend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3255"/>
                </a:solidFill>
                <a:latin typeface="Tempus Sans ITC"/>
              </a:rPr>
              <a:t>Of Ev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523880" y="1219320"/>
          <a:ext cx="6096240" cy="406404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Labor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143000" y="533520"/>
            <a:ext cx="176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99072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2057400"/>
            <a:ext cx="609480" cy="77976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Kick off Ev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with Mitch Abl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4724280"/>
            <a:ext cx="68580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Phil./Engl. Depts.:  Existential Concer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78520" y="5511960"/>
            <a:ext cx="226260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Library Display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2971800"/>
            <a:ext cx="533520" cy="58068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My Life without 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38862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 </a:t>
            </a:r>
            <a:r>
              <a:rPr b="0" i="1" lang="en-US" sz="800" spc="-1" strike="noStrike">
                <a:solidFill>
                  <a:srgbClr val="000000"/>
                </a:solidFill>
                <a:latin typeface="Tempus Sans ITC"/>
              </a:rPr>
              <a:t>Advanced Direct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olumbu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Mid-seme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Octo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1480" y="2438280"/>
            <a:ext cx="685800" cy="70308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r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Show Ope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2560" y="5715000"/>
            <a:ext cx="26161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Photography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3352680"/>
            <a:ext cx="533520" cy="413640"/>
          </a:xfrm>
          <a:prstGeom prst="rect">
            <a:avLst/>
          </a:prstGeom>
          <a:solidFill>
            <a:srgbClr val="6178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empus Sans ITC"/>
              </a:rPr>
              <a:t>FILM: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3962520"/>
            <a:ext cx="533520" cy="10674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Speaker Series: BrownU Nursing Ho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4876920"/>
            <a:ext cx="549360" cy="39852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empus Sans ITC"/>
              </a:rPr>
              <a:t>??????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OCT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Pass/fail Course w/d deadlin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Veterans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Thanksgi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1066680" y="685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1752480"/>
            <a:ext cx="7621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Halloween Par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51460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unerals/$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114800"/>
            <a:ext cx="60984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The Sweet Here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3276720"/>
            <a:ext cx="685800" cy="70236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GCOE: Helping Kids Cope with De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Finals 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</a:tr>
              <a:tr h="8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JAN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1066680" y="685800"/>
            <a:ext cx="17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2c3c"/>
                </a:solidFill>
                <a:latin typeface="Tempus Sans ITC"/>
              </a:rPr>
              <a:t>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752480"/>
            <a:ext cx="121932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Death Monolog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3429000"/>
            <a:ext cx="609480" cy="398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Conc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2438280"/>
            <a:ext cx="609480" cy="55080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empus Sans ITC"/>
              </a:rPr>
              <a:t>African Death D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438280"/>
            <a:ext cx="685800" cy="702360"/>
          </a:xfrm>
          <a:prstGeom prst="rect">
            <a:avLst/>
          </a:prstGeom>
          <a:solidFill>
            <a:srgbClr val="e1bb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ETS: Brown Bag Lun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ving Wil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0360" y="5638680"/>
            <a:ext cx="279432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Community Art Show all mon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914400"/>
                <a:gridCol w="827280"/>
                <a:gridCol w="925560"/>
                <a:gridCol w="914400"/>
                <a:gridCol w="838080"/>
                <a:gridCol w="838080"/>
                <a:gridCol w="838440"/>
              </a:tblGrid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b6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begi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Winter session e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9a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Classes be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7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Add/drop en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066680" y="6858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anu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143000"/>
            <a:ext cx="64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Tempus Sans ITC"/>
              </a:rPr>
              <a:t>Monday      Tuesday    Wednesday   Thursday      Friday        Saturday     Sun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191120"/>
            <a:ext cx="609480" cy="641520"/>
          </a:xfrm>
          <a:prstGeom prst="rect">
            <a:avLst/>
          </a:prstGeom>
          <a:solidFill>
            <a:srgbClr val="e373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Poet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empus Sans ITC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3886200"/>
            <a:ext cx="609480" cy="580680"/>
          </a:xfrm>
          <a:prstGeom prst="rect">
            <a:avLst/>
          </a:prstGeom>
          <a:solidFill>
            <a:srgbClr val="697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FILM: Antonia’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empus Sans ITC"/>
              </a:rPr>
              <a:t>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8800" y="5638680"/>
            <a:ext cx="3836880" cy="307080"/>
          </a:xfrm>
          <a:prstGeom prst="rect">
            <a:avLst/>
          </a:prstGeom>
          <a:solidFill>
            <a:srgbClr val="f2d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Special edition of  </a:t>
            </a: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The Watermark</a:t>
            </a:r>
            <a:r>
              <a:rPr b="0" lang="en-US" sz="1400" spc="-1" strike="noStrike">
                <a:solidFill>
                  <a:srgbClr val="000000"/>
                </a:solidFill>
                <a:latin typeface="Tempus Sans ITC"/>
              </a:rPr>
              <a:t> comes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752480"/>
            <a:ext cx="1524240" cy="48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empus Sans ITC"/>
              </a:rPr>
              <a:t>CCT  </a:t>
            </a:r>
            <a:r>
              <a:rPr b="0" i="1" lang="en-US" sz="1200" spc="-1" strike="noStrike">
                <a:solidFill>
                  <a:srgbClr val="000000"/>
                </a:solidFill>
                <a:latin typeface="Tempus Sans ITC"/>
              </a:rPr>
              <a:t>Special Cou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16:31:29Z</dcterms:created>
  <dc:creator>Lisa Gartner</dc:creator>
  <dc:description/>
  <dc:language>en-US</dc:language>
  <cp:lastModifiedBy>Jan Coe</cp:lastModifiedBy>
  <dcterms:modified xsi:type="dcterms:W3CDTF">2007-08-27T00:48:48Z</dcterms:modified>
  <cp:revision>14</cp:revision>
  <dc:subject/>
  <dc:title>PowerPoint Presentation</dc:title>
</cp:coreProperties>
</file>