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15A-6D45-4640-9F40-8E924BBC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080-3CE3-4B3E-8850-3088AB5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A9A-9B70-4411-8DBD-13AAEA2C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4EB-C050-4B9B-A176-70DFA860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1C0-CFB4-4865-AABA-49D59686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667-A960-468B-990C-62E591A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566-73E4-4120-A9C1-BA96C4A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80C-268A-44E2-963F-752099B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A39-8012-42DB-941B-2D3EE53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B1F-4C2E-42AF-8D53-8CBFA93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65C-191D-43A7-9BC3-9423FDD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4A0-0628-444A-B33F-E46E68D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743D-0BCC-4EB8-8F0E-4D97B6D5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861920" cy="213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19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838080"/>
            <a:ext cx="2278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711080" cy="223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73392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THE P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resident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080" y="4191120"/>
            <a:ext cx="345240" cy="24624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676520"/>
            <a:ext cx="60984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362320"/>
            <a:ext cx="609840" cy="58068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Palli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0840" y="5715000"/>
            <a:ext cx="262836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Death Mask Exhibit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20040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Vanishing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38440"/>
                <a:gridCol w="903240"/>
                <a:gridCol w="925560"/>
                <a:gridCol w="914400"/>
                <a:gridCol w="838080"/>
                <a:gridCol w="838080"/>
                <a:gridCol w="83844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Spring Break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Resu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876920"/>
            <a:ext cx="70164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14600"/>
            <a:ext cx="76212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oping with Grie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ocial Psy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038480"/>
            <a:ext cx="685800" cy="58068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ong-term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67652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merican Beau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3880" y="1397160"/>
          <a:ext cx="6008760" cy="4154400"/>
        </p:xfrm>
        <a:graphic>
          <a:graphicData uri="http://schemas.openxmlformats.org/drawingml/2006/table">
            <a:tbl>
              <a:tblPr/>
              <a:tblGrid>
                <a:gridCol w="827280"/>
                <a:gridCol w="826920"/>
                <a:gridCol w="925560"/>
                <a:gridCol w="914400"/>
                <a:gridCol w="838080"/>
                <a:gridCol w="838440"/>
                <a:gridCol w="838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lourse w/d dead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triots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9907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Multicultural F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438280"/>
            <a:ext cx="68580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Religious Forum: After Dea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800600"/>
            <a:ext cx="609480" cy="82404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“Project on Death in Amer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24520" y="5715000"/>
            <a:ext cx="24757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tudent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35268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Y Tu Mama Tamb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emorial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51460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God  said, Ha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280" y="5638680"/>
            <a:ext cx="14212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Displ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76520"/>
            <a:ext cx="70164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Personal Eulogy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1080" y="18288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2d364b"/>
                  </a:solidFill>
                  <a:miter/>
                </a:ln>
                <a:solidFill>
                  <a:srgbClr val="3a445e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Thank you</a:t>
            </a:r>
            <a:endParaRPr b="0" lang="en-US" sz="2400" spc="1" strike="noStrike">
              <a:ln w="25560">
                <a:solidFill>
                  <a:srgbClr val="2d364b"/>
                </a:solidFill>
                <a:miter/>
              </a:ln>
              <a:solidFill>
                <a:srgbClr val="3a445e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2133720" cy="9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3255"/>
                </a:solidFill>
                <a:latin typeface="Tempus Sans ITC"/>
              </a:rPr>
              <a:t>Ste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3255"/>
                </a:solidFill>
                <a:latin typeface="Tempus Sans ITC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3255"/>
                </a:solidFill>
                <a:latin typeface="Tempus Sans ITC"/>
              </a:rPr>
              <a:t>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PB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57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.  Encounter an Ill-Define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91440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2. Ask IPF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teresting?  Puzzling?  Find 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6240" y="1600200"/>
            <a:ext cx="41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3. Pursue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0" y="2057400"/>
            <a:ext cx="42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4.  A. Map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B. Prioritiz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19520"/>
            <a:ext cx="3581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5. Investigat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Strate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q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09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6. Analyz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3434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宋体"/>
              </a:rPr>
              <a:t> 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7.</a:t>
            </a: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</a:t>
            </a:r>
            <a:r>
              <a:rPr b="1" lang="en-US" sz="2800" spc="-1" strike="noStrike">
                <a:solidFill>
                  <a:srgbClr val="1f3255"/>
                </a:solidFill>
                <a:latin typeface="Tempus Sans ITC"/>
                <a:ea typeface="宋体"/>
              </a:rPr>
              <a:t>Reiterate Learning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480" y="48769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8. </a:t>
            </a:r>
            <a:r>
              <a:rPr b="1" lang="en-US" sz="2000" spc="-1" strike="noStrike">
                <a:solidFill>
                  <a:srgbClr val="1f3255"/>
                </a:solidFill>
                <a:latin typeface="Tempus Sans ITC"/>
                <a:ea typeface="宋体"/>
              </a:rPr>
              <a:t>Generate Solutions/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3341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9.  Communicat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4440" y="5791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0. Conduct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2230560" cy="276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2179800" cy="271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505320"/>
            <a:ext cx="211320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943600" y="609480"/>
            <a:ext cx="21099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4720" y="121932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7320" y="4773600"/>
            <a:ext cx="226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42c3c"/>
                </a:solidFill>
                <a:latin typeface="Tempus Sans ITC"/>
              </a:rPr>
              <a:t>PB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196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371600"/>
            <a:ext cx="3581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ART of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DY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 </a:t>
            </a: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Calend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Of Ev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1219320"/>
          <a:ext cx="609624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Labor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43000" y="53352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99072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057400"/>
            <a:ext cx="609480" cy="77976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Kick off 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with Mitch Abl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724280"/>
            <a:ext cx="68580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Phil./Engl. Depts.:  Existential Concer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8520" y="5511960"/>
            <a:ext cx="226260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 Display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971800"/>
            <a:ext cx="53352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My Life without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8862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Advanced Direc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olumbu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2438280"/>
            <a:ext cx="685800" cy="70308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Show Op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2560" y="5715000"/>
            <a:ext cx="26161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Photography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352680"/>
            <a:ext cx="533520" cy="41364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62520"/>
            <a:ext cx="533520" cy="10674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BrownU Nursing Ho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876920"/>
            <a:ext cx="54936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empus Sans ITC"/>
              </a:rPr>
              <a:t>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OCT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ourse w/d deadlin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Veteran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Thanksgi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66680" y="685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7621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Halloween Pa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unerals/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114800"/>
            <a:ext cx="60984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Sweet Here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68580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GCOE: Helping Kids Cope with De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JAN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066680" y="6858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12193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Death Monolog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429000"/>
            <a:ext cx="60948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Conc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438280"/>
            <a:ext cx="609480" cy="5508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frican Death 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43828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 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ving W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360" y="5638680"/>
            <a:ext cx="27943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Community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e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191120"/>
            <a:ext cx="609480" cy="641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886200"/>
            <a:ext cx="60948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ntonia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800" y="5638680"/>
            <a:ext cx="38368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pecial edition of  </a:t>
            </a: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The Watermark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com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752480"/>
            <a:ext cx="1524240" cy="48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CCT 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Special Cou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6:31:29Z</dcterms:created>
  <dc:creator>Lisa Gartner</dc:creator>
  <dc:description/>
  <dc:language>en-US</dc:language>
  <cp:lastModifiedBy>Jan Coe</cp:lastModifiedBy>
  <dcterms:modified xsi:type="dcterms:W3CDTF">2007-08-27T00:48:48Z</dcterms:modified>
  <cp:revision>14</cp:revision>
  <dc:subject/>
  <dc:title>PowerPoint Presentation</dc:title>
</cp:coreProperties>
</file>